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561A-2797-49F0-BD86-D2F74237C2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t 2: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reochemistry – The Structures of Molecular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we have seen molecules represented in 2-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lecules are actually 3 dimens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dict 3 dimensional molecular shapes we use VSEPR theory (Valence-Shell Electron-Pair Repul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electrostatic repulsion of electron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the repulsion force is strongest between two lone pairs and the weakest between two bonded pairs, and the repulsion between a lone pair and a bonded pair is intermedi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pply the VSEPR theory to a central atom that has an octet of electrons in its valence shell, and there are three categories of shapes; linear, trigonal planar, and tetrahed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VSEPR, an electron group is a bond (single or multiple) or a lone p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when a central atom has two electron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is linear because the electron groups try to arrange themselves as far apart a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nd angle between the electron groups is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atom is bonded to two other atoms by two double bonds or a combination of a single bond and a triple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gonal Plan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entral atom with three electron groups has a trigonal planar sh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nding angle between the electron groups is 120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atom is either bonded to three atoms(trigonal planar), or two atoms and a lone pair(bent or V-sha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trahed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entral atom with four electron groups has a tetrahedral sh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nding angles between the electron groups is 109.5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al atom can be bonded to four atoms (tetrahedral), three atoms and a lone pair (trigonal pyramidal), or two atoms and two lone pairs (bent or V-shap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s to Predicting Molecular Sh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primary LDD of the molec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otal number of electron groups around the central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ypes of electron groups (bonding pairs or lone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which shape will accommodate the combination of electron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 is a measure of the relative ability of an element’s atoms to attract the shared electrons in a chemical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electronegativities mean a greater attraction for the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orine is the highest with a value of 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and Metallic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cular Sha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Crys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work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in group elements, electronegativity tends to increase with the group number (left to right on the periodic 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noble gases do not have electronegativities, why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egativities also increase as you move vertically up a group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Siz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 period in the periodic table, as you move right the size of the atom de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this trend ex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siz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number of protons increases, the force attracting the electrons in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s are pulled closer to the nucleus of the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of electronegativity between two bonding atoms can be measured by subtracting the smaller number from the larger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in the two electronegativities determines the nature of the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s that are sharing electrons UNEQUALLY between two atoms are called POLAR COVALENT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atoms are identical (equal electronegativity), the bond will not be polar. This is called NON-POLAR COVALENT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covalent bonds have a positive “pole” and a negative “pole” so they are also referred to as “bond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covalent bonds have an electronegativity difference between 0 and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 have an electronegativity difference between 1.7 and 3.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molecules that contain polar bonds necessarily po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H2O and CO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if a molecule is polar we need to look at the overall direction of po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in polarity arrows on your molecule and determine if the molecules are polar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 form from the electrostatic attraction between oppositely charged 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become ionic by losing or gaining electrons from the atom it is bonding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an atom will lose its electrons to fill its outer level if its valence level is less than half full, as it is with me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Exchange and Ionic Bond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nds between atoms are formed through the sharing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s form between two non-metal atoms through sharing of pairs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have a “desire” to have their outer energy levels filled (Octet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ing can be represented with Lewis Dot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lic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can form bonds with other metals, but it is neither covalent or ion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cannot share electrons to form an octet of electrons around each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 8 sodium atoms all trying to share the same 8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metal atoms do not form covalent or ionic bonds with each other, there must be relatively strong attractive forces holding the atoms together or else the metals would be in a gaseous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etallic bonding, the valence electrons are delocalized, which means they are free to move from one atom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electrons are free to move, all of the atoms share all of the valence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electrostatic force between the positively charged metal ions and the negative electrons that make the metallic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Crys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one metal bonding to one non-metal, ionic substances have their ions packed together in a crystal lat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ystals can also be represented in a ball and stick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icks represent the attractive forces between the 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ll the attractions are equal, there are no pairs of ions to be identified as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formula only represents the ratio of the ions in the crys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ratio of ions in the crystal is called a formula unit, not a molec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of the macroscopic crystals is determined by the way their ions pack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set of ions in a crystal needed to make the pattern is called a unit c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able Salt              Sucrose        Uncut Diamond</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ze of each ion influences the pattern of 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fluence is the relative charge of the ions, and therefore the ratio of ions in the crys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ystal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beautiful crystal formations can be found in nature as well as in the labor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s show the sharing of electrons between atoms and where the bonds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share electrons to fill their outer energy levels (8 electrons in their outer sh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ception is hydrogen (2 electrons in its outer sh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work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ionic crystals, but they are held together with covalent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le elements can form an array of different network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Carbon forms graphite, diamond, nanotubes (pg. 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different network solid of the same element just has different arrangement of the a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etwork solids contain two different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Silicon Dioxide (sand, quar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alent bonds exist between atoms within a molecular comp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valent bonds are called intra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holding entire molecules together are called 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pole-Dipole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s between pola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molecules have a positive pole and a negative pole so they are called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wo dipoles come close to each other, the positive pole of one is attracted to the negative pole of the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pole-Dipole Attr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molecule can be attracted to four or more other polar molecules at the sam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Dipole-Dipole At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s strong as ionic attraction, but can be strong enough to stabilize a solid crys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Table sug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dipole-dipole attraction that occurs between hydrogen and highly electronegative atoms such as oxygen, nitrogen, or fluor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nucleus of the hydrogen atom is attracted to the slightly negative charge on the other a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stronger than other dipole-dipole attr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s for Hydrogen and Chlorine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row shows the atoms before they are bo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ow shows the sharing of electrons to fill the outer energy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row has circles around the electrons  to show those that belong to each atom. Where the circles overlap  represents a covalent b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ing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ing is an important factor that influences the structure and properties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xygen atom can be hydrogen bonded to as many as 6 other hydrogen atoms in other wate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s in 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water molecule is hydrogen bonded to four other water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er molecules in ice are farther apart than in liquid water, therefore ice is less dense than liqui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bonds are the strongest in the form shown in the next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que Properties 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 handout on the unique properties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don Dispersio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ersion forces act between all molecules, but in non-polar molecules they are the only fo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re are no permanent dipoles in non-polar molecules, it is possible to induce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olar molecules also spontaneously form temporary di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re in constant, rapid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brief moment the electron distribution can be un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form a positive pole and a negative pole in the molec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orary dipole in the molecule can induce a temporary dipole in the next molecule, like the balloon and the w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ess disperses through the sub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s Affecting Magn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factors affect LD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d electrons = increased probability of a temporary dipole for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 shapes have greater London dispersio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s and Properties of Com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 of a substance (solid, liquid or gas) depends on the strength of the inter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articles gain kinetic energy (heat) they break their intermolecular bonds and change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and triple bonds can form between atoms in order to fill the outer energy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ccurs when two atoms share more than one pair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of Hydrogen Bo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YI – hydrogen bonds in liquid water break and reform 100 000 000 000 (1011) times every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lting and Boil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lting and boiling points of ionic substances and metals are about the same magn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lting and boiling points of molecular substances are much l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at tell us about the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bonds are much stronger if the ions have a large ch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onic compounds that have ions with large charges will have higher melting/boil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cular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molecular compounds,  dipoles that form hydrogen bonds are the strong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pole-dipole forces are weaker than hydrogen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olar molecules that have London dispersion forces are the weak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hydrogen bonded substances have the highest melting/boiling points, dipole-dipole have lower melting/boiling points, and non-polar substances have the lowest melting/boiling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al Properties of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are malleable because of the nature of metallic bonds (positive ions in a sea of electr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substances are brittle because if a layer of the crystal is shifted down one position,  like ions will be aligned and rep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polar molecular substances are usually soft and easily bro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of a substance to transfer electrical cur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to occur, charged particles (ions or electrons) must be able to move fre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are good conductors because their electrons are free to move throughout the metallic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solids do not conduct electric current because the ions are held together in a rigid 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c substances that are dissolved in water are good conductors because the charged ions are free to move in th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etwork solids can conduct electricity because of delocalized electrons (grap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cular compounds cannot conduct electricity in pure form or dissolved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view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g. 1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4,6-14, 16, 19, 21, 22, 25-29, 31, 34-39, 41, 43, 47, 48, 51, 57, 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rdebenham@cbe.ab.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Lewis Stru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lecules can have more than one possible Lewis structure, usually when one single bond and one double bond can be exchanged within the rules of drawing Lewis stru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SO2 (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Diagr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iagrams can be converted to structural diagrams for conven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diagrams use lines to represent a bond, or a pair of electrons, but it does not show lone electron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Chlorine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Dot Diagram Worksh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ules for drawing Lewis dot diagrams, complete the worksheet (LDD and structu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tra practice, try the Lewis Structures Thought L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B9A60-B488-42D7-A33E-51DA4FB6E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2355B-9C95-49B5-80A3-80B7CDC34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A5284-07B8-4B67-9C04-16E6496B0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8CDAE-0296-4C73-AA41-4504E8AA4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9FEB4-5711-4945-B3DC-790A70E24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4FB29-9226-4666-AE72-E8CE87F8F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50E5A-84B6-456B-B7C1-03961CA5B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3D4C4-18A9-46C1-B047-D8C999BB0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B78E7-8FE9-42DC-BC67-C4A23E44A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9DD58-9B8B-420D-894A-EC3677D4E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E5BA3-EF4B-4479-8665-DD59404FE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ED269-6C21-4309-9BB0-E30F34E7D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41737-555C-4D18-AD40-A3815B269B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nit 2: Bonding</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tereochemistry – The Structures of Molecular Compounds</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 far we have seen molecules represented in 2-D</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ever, molecules are actually 3 dimensional</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predict 3 dimensional molecular shapes we use VSEPR theory (Valence-Shell Electron-Pair Repulsion)</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sed on the electrostatic repulsion of electro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te that the repulsion force is strongest between two lone pairs and the weakest between two bonded pairs, and the repulsion between a lone pair and a bonded pair is intermediat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e apply the VSEPR theory to a central atom that has an octet of electrons in its valence shell, and there are three categories of shapes; linear, trigonal planar, and tetrahedra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VSEPR, an electron group is a bond (single or multiple) or a lone pa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near</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orms when a central atom has two electron groups</a:t>
            </a:r>
            <a:endParaRPr b="0" lang="en-US" sz="30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e shape is linear because the electron groups try to arrange themselves as far apart as possible</a:t>
            </a:r>
            <a:endParaRPr b="0" lang="en-US" sz="30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e bond angle between the electron groups is 180</a:t>
            </a:r>
            <a:r>
              <a:rPr b="0" lang="en-US" sz="3000" spc="-1" strike="noStrike" baseline="30000">
                <a:solidFill>
                  <a:srgbClr val="ffffff"/>
                </a:solidFill>
                <a:latin typeface="Calibri"/>
              </a:rPr>
              <a:t>0</a:t>
            </a:r>
            <a:endParaRPr b="0" lang="en-US" sz="3000" spc="-1" strike="noStrike">
              <a:solidFill>
                <a:srgbClr val="000000"/>
              </a:solidFill>
              <a:latin typeface="Calibri"/>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e central atom is bonded to two other atoms by two double bonds or a combination of a single bond and a triple bon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igonal Planar</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central atom with three electron groups has a trigonal planar shap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bonding angle between the electron groups is 120</a:t>
            </a:r>
            <a:r>
              <a:rPr b="0" lang="en-US" sz="3200" spc="-1" strike="noStrike" baseline="30000">
                <a:solidFill>
                  <a:srgbClr val="ffffff"/>
                </a:solidFill>
                <a:latin typeface="Calibri"/>
              </a:rPr>
              <a:t>o</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entral atom is either bonded to three atoms(trigonal planar), or two atoms and a lone pair(bent or V-shap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etrahedral</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central atom with four electron groups has a tetrahedral shap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bonding angles between the electron groups is 109.5</a:t>
            </a:r>
            <a:r>
              <a:rPr b="0" lang="en-US" sz="3200" spc="-1" strike="noStrike" baseline="30000">
                <a:solidFill>
                  <a:srgbClr val="ffffff"/>
                </a:solidFill>
                <a:latin typeface="Calibri"/>
              </a:rPr>
              <a:t>o</a:t>
            </a:r>
            <a:r>
              <a:rPr b="0" lang="en-US" sz="3200" spc="-1" strike="noStrike">
                <a:solidFill>
                  <a:srgbClr val="ffffff"/>
                </a:solidFill>
                <a:latin typeface="Calibri"/>
              </a:rPr>
              <a:t>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entral atom can be bonded to four atoms (tetrahedral), three atoms and a lone pair (trigonal pyramidal), or two atoms and two lone pairs (bent or V-shap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formation Summary</a:t>
            </a:r>
            <a:endParaRPr b="0" lang="en-US" sz="4400" spc="-1" strike="noStrike">
              <a:solidFill>
                <a:srgbClr val="000000"/>
              </a:solidFill>
              <a:latin typeface="Calibri"/>
            </a:endParaRPr>
          </a:p>
        </p:txBody>
      </p:sp>
      <p:graphicFrame>
        <p:nvGraphicFramePr>
          <p:cNvPr id="84" name=""/>
          <p:cNvGraphicFramePr/>
          <p:nvPr/>
        </p:nvGraphicFramePr>
        <p:xfrm>
          <a:off x="457200" y="1600200"/>
          <a:ext cx="8229600" cy="3139920"/>
        </p:xfrm>
        <a:graphic>
          <a:graphicData uri="http://schemas.openxmlformats.org/drawingml/2006/table">
            <a:tbl>
              <a:tblPr/>
              <a:tblGrid>
                <a:gridCol w="2057400"/>
                <a:gridCol w="2057400"/>
                <a:gridCol w="2057400"/>
                <a:gridCol w="2057400"/>
              </a:tblGrid>
              <a:tr h="914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of lone electron pairs around the central at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of bonds around the central at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hape of the molecu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ond angles around the central at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trahedr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gonal Pla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yramid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shaped or b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shaped or b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teps to Predicting Molecular Shapes</a:t>
            </a:r>
            <a:endParaRPr b="0" lang="en-US" sz="40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raw a primary LDD of the molecule</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termine the total number of electron groups around the central atom</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termine the types of electron groups (bonding pairs or lone pairs)</a:t>
            </a:r>
            <a:endParaRPr b="0" lang="en-US" sz="32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termine which shape will accommodate the combination of electron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ectronegativity</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egativity is a measure of the relative ability of an element’s atoms to attract the shared electrons in a chemical bon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er electronegativities mean a greater attraction for the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luorine is the highest with a value of 4.0</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0" name="Picture 4" descr=""/>
          <p:cNvPicPr/>
          <p:nvPr/>
        </p:nvPicPr>
        <p:blipFill>
          <a:blip r:embed="rId1"/>
          <a:stretch/>
        </p:blipFill>
        <p:spPr>
          <a:xfrm>
            <a:off x="0" y="3808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2" name="Picture 4" descr=""/>
          <p:cNvPicPr/>
          <p:nvPr/>
        </p:nvPicPr>
        <p:blipFill>
          <a:blip r:embed="rId1"/>
          <a:stretch/>
        </p:blipFill>
        <p:spPr>
          <a:xfrm>
            <a:off x="304920" y="304920"/>
            <a:ext cx="84582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verview</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ing</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and Metallic Bonding</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egativity</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lecular Shape</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olarity</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Crystals</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etwork Solids</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ermolecular Fo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Electronegativity</a:t>
            </a:r>
            <a:br>
              <a:rPr sz="4000"/>
            </a:br>
            <a:endParaRPr b="0" lang="en-US" sz="40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main group elements, electronegativity tends to increase with the group number (left to right on the periodic tab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tice the noble gases do not have electronegativities, why is tha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egativities also increase as you move vertically up a group number.</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tom Size</a:t>
            </a: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For any period in the periodic table, as you move right the size of the atom decreas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Why does this trend exis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tom</a:t>
            </a:r>
            <a:r>
              <a:rPr b="0" lang="en-US" sz="4400" spc="-1" strike="noStrike">
                <a:solidFill>
                  <a:srgbClr val="000000"/>
                </a:solidFill>
                <a:latin typeface="Calibri"/>
              </a:rPr>
              <a:t> </a:t>
            </a:r>
            <a:r>
              <a:rPr b="0" lang="en-US" sz="4400" spc="-1" strike="noStrike">
                <a:solidFill>
                  <a:srgbClr val="ffffff"/>
                </a:solidFill>
                <a:latin typeface="Calibri"/>
              </a:rPr>
              <a:t>size</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As the number of protons increases, the force attracting the electrons increas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The electrons are pulled closer to the nucleus of the at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ity</a:t>
            </a:r>
            <a:endParaRPr b="0" lang="en-US" sz="4400" spc="-1" strike="noStrike">
              <a:solidFill>
                <a:srgbClr val="000000"/>
              </a:solidFill>
              <a:latin typeface="Arial"/>
            </a:endParaRPr>
          </a:p>
        </p:txBody>
      </p:sp>
      <p:sp>
        <p:nvSpPr>
          <p:cNvPr id="102" name="Content Placeholder 2"/>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difference of electronegativity between two bonding atoms can be measured by subtracting the </a:t>
            </a:r>
            <a:r>
              <a:rPr b="0" lang="en-US" sz="3200" spc="-1" strike="noStrike" u="sng">
                <a:solidFill>
                  <a:srgbClr val="ffffff"/>
                </a:solidFill>
                <a:uFillTx/>
                <a:latin typeface="Calibri"/>
              </a:rPr>
              <a:t>smaller</a:t>
            </a:r>
            <a:r>
              <a:rPr b="0" lang="en-US" sz="3200" spc="-1" strike="noStrike">
                <a:solidFill>
                  <a:srgbClr val="ffffff"/>
                </a:solidFill>
                <a:latin typeface="Calibri"/>
              </a:rPr>
              <a:t> number from the </a:t>
            </a:r>
            <a:r>
              <a:rPr b="0" lang="en-US" sz="3200" spc="-1" strike="noStrike" u="sng">
                <a:solidFill>
                  <a:srgbClr val="ffffff"/>
                </a:solidFill>
                <a:uFillTx/>
                <a:latin typeface="Calibri"/>
              </a:rPr>
              <a:t>larger</a:t>
            </a:r>
            <a:r>
              <a:rPr b="0" lang="en-US" sz="3200" spc="-1" strike="noStrike">
                <a:solidFill>
                  <a:srgbClr val="ffffff"/>
                </a:solidFill>
                <a:latin typeface="Calibri"/>
              </a:rPr>
              <a:t> number.</a:t>
            </a: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difference in the two electronegativities determines the nature of the bond</a:t>
            </a: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ity</a:t>
            </a:r>
            <a:endParaRPr b="0" lang="en-US" sz="4400" spc="-1" strike="noStrike">
              <a:solidFill>
                <a:srgbClr val="000000"/>
              </a:solidFill>
              <a:latin typeface="Arial"/>
            </a:endParaRPr>
          </a:p>
        </p:txBody>
      </p:sp>
      <p:sp>
        <p:nvSpPr>
          <p:cNvPr id="106" name="Rectangle 3"/>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onds that are sharing electrons </a:t>
            </a:r>
            <a:r>
              <a:rPr b="0" lang="en-US" sz="3200" spc="-1" strike="noStrike">
                <a:solidFill>
                  <a:srgbClr val="ffff00"/>
                </a:solidFill>
                <a:latin typeface="Calibri"/>
              </a:rPr>
              <a:t>UNEQUALLY</a:t>
            </a:r>
            <a:r>
              <a:rPr b="0" lang="en-US" sz="3200" spc="-1" strike="noStrike">
                <a:solidFill>
                  <a:srgbClr val="ffffff"/>
                </a:solidFill>
                <a:latin typeface="Calibri"/>
              </a:rPr>
              <a:t> between two atoms are called </a:t>
            </a:r>
            <a:r>
              <a:rPr b="0" lang="en-US" sz="3200" spc="-1" strike="noStrike">
                <a:solidFill>
                  <a:srgbClr val="ffff00"/>
                </a:solidFill>
                <a:latin typeface="Calibri"/>
              </a:rPr>
              <a:t>POLAR COVALENT BONDS</a:t>
            </a:r>
            <a:endParaRPr b="0" lang="en-US" sz="3200" spc="-1" strike="noStrike">
              <a:solidFill>
                <a:srgbClr val="000000"/>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f the atoms are identical (equal electronegativity), the bond will not be polar. This is called </a:t>
            </a:r>
            <a:r>
              <a:rPr b="0" lang="en-US" sz="3200" spc="-1" strike="noStrike">
                <a:solidFill>
                  <a:srgbClr val="ffff00"/>
                </a:solidFill>
                <a:latin typeface="Calibri"/>
              </a:rPr>
              <a:t>NON-POLAR COVALENT BO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olar covalent bonds have a positive “pole” and a negative “pole” so they are also referred to as “bond dipo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olar covalent bonds have an electronegativity difference between 0 and 1.7</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Ionic bonds have an electronegativity difference between 1.7 and 3.3</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0" name="Picture 4" descr=""/>
          <p:cNvPicPr/>
          <p:nvPr/>
        </p:nvPicPr>
        <p:blipFill>
          <a:blip r:embed="rId1"/>
          <a:stretch/>
        </p:blipFill>
        <p:spPr>
          <a:xfrm>
            <a:off x="228600" y="1704960"/>
            <a:ext cx="8915400" cy="420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olar Molecules</a:t>
            </a: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re molecules that contain polar bonds necessarily pola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s of H</a:t>
            </a:r>
            <a:r>
              <a:rPr b="0" lang="en-US" sz="3200" spc="-1" strike="noStrike" baseline="-25000">
                <a:solidFill>
                  <a:srgbClr val="ffffff"/>
                </a:solidFill>
                <a:latin typeface="Calibri"/>
              </a:rPr>
              <a:t>2</a:t>
            </a:r>
            <a:r>
              <a:rPr b="0" lang="en-US" sz="3200" spc="-1" strike="noStrike">
                <a:solidFill>
                  <a:srgbClr val="ffffff"/>
                </a:solidFill>
                <a:latin typeface="Calibri"/>
              </a:rPr>
              <a:t>O and CO</a:t>
            </a:r>
            <a:r>
              <a:rPr b="0" lang="en-US" sz="3200" spc="-1" strike="noStrike" baseline="-25000">
                <a:solidFill>
                  <a:srgbClr val="ffffff"/>
                </a:solidFill>
                <a:latin typeface="Calibri"/>
              </a:rPr>
              <a:t>2</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determine if a molecule is polar we need to look at the overall direction of polarity</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raw in polarity arrows on your molecule and determine if the molecules are polar or no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Bond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bonds form from the electrostatic attraction between oppositely charged 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oms become ionic by losing or gaining electrons from the atom it is bonding with</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member that an atom will lose its electrons to fill its outer level if its valence level is less than half full, as it is with met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ctron Exchange and Ionic Bond Formation</a:t>
            </a:r>
            <a:endParaRPr b="0" lang="en-US" sz="4000" spc="-1" strike="noStrike">
              <a:solidFill>
                <a:srgbClr val="000000"/>
              </a:solidFill>
              <a:latin typeface="Calibri"/>
            </a:endParaRPr>
          </a:p>
        </p:txBody>
      </p:sp>
      <p:pic>
        <p:nvPicPr>
          <p:cNvPr id="116" name="Picture 2" descr=""/>
          <p:cNvPicPr/>
          <p:nvPr/>
        </p:nvPicPr>
        <p:blipFill>
          <a:blip r:embed="rId1"/>
          <a:stretch/>
        </p:blipFill>
        <p:spPr>
          <a:xfrm>
            <a:off x="1600200" y="2281320"/>
            <a:ext cx="5943600" cy="316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valent Bonding</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onds between atoms are formed through the sharing of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s form between two non-metal atoms through sharing of pairs of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oms have a “desire” to have their outer energy levels filled (Octet Ru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ing can be represented with Lewis Dot Diagra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tallic Bonding</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Metals can form bonds with other metals, but it is neither covalent or ionic</a:t>
            </a:r>
            <a:endParaRPr b="0" lang="en-US" sz="3600" spc="-1" strike="noStrike">
              <a:solidFill>
                <a:srgbClr val="000000"/>
              </a:solidFill>
              <a:latin typeface="Calibri"/>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Metals cannot share electrons to form an octet of electrons around each atom</a:t>
            </a:r>
            <a:endParaRPr b="0" lang="en-US" sz="3600" spc="-1" strike="noStrike">
              <a:solidFill>
                <a:srgbClr val="000000"/>
              </a:solidFill>
              <a:latin typeface="Calibri"/>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magine 8 sodium atoms all trying to share the same 8 electr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40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
          <p:cNvSpPr txBox="1"/>
          <p:nvPr/>
        </p:nvSpPr>
        <p:spPr>
          <a:xfrm>
            <a:off x="457200" y="1676520"/>
            <a:ext cx="8229600" cy="4449600"/>
          </a:xfrm>
          <a:prstGeom prst="rect">
            <a:avLst/>
          </a:prstGeom>
          <a:noFill/>
          <a:ln w="0">
            <a:noFill/>
          </a:ln>
        </p:spPr>
        <p:txBody>
          <a:bodyPr anchor="t">
            <a:normAutofit/>
          </a:bodyPr>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though metal atoms do not form covalent or ionic bonds with each other, there must be relatively strong attractive forces holding the atoms together or else the metals would be in a gaseous stat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metallic bonding, the valence electrons are delocalized, which means they are free to move from one atom to the nex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the electrons are free to move, all of the atoms share all of the valence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t is the electrostatic force between the positively charged metal ions and the negative electrons that make the metallic b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Crysta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ther than one metal bonding to one non-metal, ionic substances have their ions packed together in a crystal lattic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rystals can also be represented in a ball and stick mode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6" name="" descr=""/>
          <p:cNvPicPr/>
          <p:nvPr/>
        </p:nvPicPr>
        <p:blipFill>
          <a:blip r:embed="rId1"/>
          <a:stretch/>
        </p:blipFill>
        <p:spPr>
          <a:xfrm>
            <a:off x="457200" y="1600200"/>
            <a:ext cx="8229600" cy="4525920"/>
          </a:xfrm>
          <a:prstGeom prst="rect">
            <a:avLst/>
          </a:prstGeom>
          <a:ln w="0">
            <a:noFill/>
          </a:ln>
        </p:spPr>
      </p:pic>
      <p:pic>
        <p:nvPicPr>
          <p:cNvPr id="127" name="Picture 2" descr=""/>
          <p:cNvPicPr/>
          <p:nvPr/>
        </p:nvPicPr>
        <p:blipFill>
          <a:blip r:embed="rId2"/>
          <a:stretch/>
        </p:blipFill>
        <p:spPr>
          <a:xfrm>
            <a:off x="609480" y="3124080"/>
            <a:ext cx="2009880" cy="676440"/>
          </a:xfrm>
          <a:prstGeom prst="rect">
            <a:avLst/>
          </a:prstGeom>
          <a:ln w="0">
            <a:noFill/>
          </a:ln>
        </p:spPr>
      </p:pic>
      <p:pic>
        <p:nvPicPr>
          <p:cNvPr id="128" name="Picture 3" descr=""/>
          <p:cNvPicPr/>
          <p:nvPr/>
        </p:nvPicPr>
        <p:blipFill>
          <a:blip r:embed="rId3"/>
          <a:stretch/>
        </p:blipFill>
        <p:spPr>
          <a:xfrm>
            <a:off x="3429000" y="2514600"/>
            <a:ext cx="2104920" cy="2162160"/>
          </a:xfrm>
          <a:prstGeom prst="rect">
            <a:avLst/>
          </a:prstGeom>
          <a:ln w="0">
            <a:noFill/>
          </a:ln>
        </p:spPr>
      </p:pic>
      <p:pic>
        <p:nvPicPr>
          <p:cNvPr id="129" name="Picture 4" descr=""/>
          <p:cNvPicPr/>
          <p:nvPr/>
        </p:nvPicPr>
        <p:blipFill>
          <a:blip r:embed="rId4"/>
          <a:stretch/>
        </p:blipFill>
        <p:spPr>
          <a:xfrm>
            <a:off x="6172200" y="2514600"/>
            <a:ext cx="2124000" cy="1943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ticks represent the attractive forces between the 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nce all the attractions are equal, there are no pairs of ions to be identified as molecu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refore the formula only represents the </a:t>
            </a:r>
            <a:r>
              <a:rPr b="0" i="1" lang="en-US" sz="3200" spc="-1" strike="noStrike">
                <a:solidFill>
                  <a:srgbClr val="ffff00"/>
                </a:solidFill>
                <a:latin typeface="Calibri"/>
              </a:rPr>
              <a:t>ratio </a:t>
            </a:r>
            <a:r>
              <a:rPr b="0" lang="en-US" sz="3200" spc="-1" strike="noStrike">
                <a:solidFill>
                  <a:srgbClr val="ffffff"/>
                </a:solidFill>
                <a:latin typeface="Calibri"/>
              </a:rPr>
              <a:t>of the ions in the cryst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mallest ratio of ions in the crystal is called a formula unit, not a molecul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hape of the macroscopic crystals is determined by the way their ions pack togeth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mallest set of ions in a crystal needed to make the pattern is called a </a:t>
            </a:r>
            <a:r>
              <a:rPr b="0" i="1" lang="en-US" sz="3200" spc="-1" strike="noStrike">
                <a:solidFill>
                  <a:srgbClr val="ffc000"/>
                </a:solidFill>
                <a:latin typeface="Calibri"/>
              </a:rPr>
              <a:t>unit c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Table Salt              Sucrose        Uncut Diamond</a:t>
            </a:r>
            <a:endParaRPr b="0" lang="en-US" sz="3200" spc="-1" strike="noStrike">
              <a:solidFill>
                <a:srgbClr val="000000"/>
              </a:solidFill>
              <a:latin typeface="Calibri"/>
            </a:endParaRPr>
          </a:p>
        </p:txBody>
      </p:sp>
      <p:pic>
        <p:nvPicPr>
          <p:cNvPr id="136" name="Picture 2" descr=""/>
          <p:cNvPicPr/>
          <p:nvPr/>
        </p:nvPicPr>
        <p:blipFill>
          <a:blip r:embed="rId1"/>
          <a:stretch/>
        </p:blipFill>
        <p:spPr>
          <a:xfrm>
            <a:off x="838080" y="2057400"/>
            <a:ext cx="2592360" cy="2362320"/>
          </a:xfrm>
          <a:prstGeom prst="rect">
            <a:avLst/>
          </a:prstGeom>
          <a:ln w="0">
            <a:noFill/>
          </a:ln>
        </p:spPr>
      </p:pic>
      <p:pic>
        <p:nvPicPr>
          <p:cNvPr id="137" name="Picture 3" descr=""/>
          <p:cNvPicPr/>
          <p:nvPr/>
        </p:nvPicPr>
        <p:blipFill>
          <a:blip r:embed="rId2"/>
          <a:stretch/>
        </p:blipFill>
        <p:spPr>
          <a:xfrm>
            <a:off x="3657600" y="2133720"/>
            <a:ext cx="2362320" cy="2286000"/>
          </a:xfrm>
          <a:prstGeom prst="rect">
            <a:avLst/>
          </a:prstGeom>
          <a:ln w="0">
            <a:noFill/>
          </a:ln>
        </p:spPr>
      </p:pic>
      <p:pic>
        <p:nvPicPr>
          <p:cNvPr id="138" name="Picture 4" descr=""/>
          <p:cNvPicPr/>
          <p:nvPr/>
        </p:nvPicPr>
        <p:blipFill>
          <a:blip r:embed="rId3"/>
          <a:stretch/>
        </p:blipFill>
        <p:spPr>
          <a:xfrm>
            <a:off x="6172200" y="2057400"/>
            <a:ext cx="2343240" cy="2286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ize of each ion influences the pattern of i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other influence is the relative charge of the ions, and therefore the ratio of ions in the cryst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rystal formation</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ny beautiful crystal formations can be found in nature as well as in the laborat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ewis Dot Diagrams</a:t>
            </a:r>
            <a:r>
              <a:rPr b="0" lang="en-US" sz="4400" spc="-1" strike="noStrike">
                <a:solidFill>
                  <a:srgbClr val="ffffff"/>
                </a:solidFill>
                <a:latin typeface="Calibri"/>
              </a:rPr>
              <a: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wis Dot Diagrams show the sharing of electrons between atoms and where the bonds form</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oms share electrons to fill their outer energy levels (8 electrons in their outer shell)</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exception is hydrogen (2 electrons in its outer sh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4" name="Picture 2" descr=""/>
          <p:cNvPicPr/>
          <p:nvPr/>
        </p:nvPicPr>
        <p:blipFill>
          <a:blip r:embed="rId1"/>
          <a:stretch/>
        </p:blipFill>
        <p:spPr>
          <a:xfrm>
            <a:off x="304920" y="380880"/>
            <a:ext cx="3781440" cy="4705560"/>
          </a:xfrm>
          <a:prstGeom prst="rect">
            <a:avLst/>
          </a:prstGeom>
          <a:ln w="0">
            <a:noFill/>
          </a:ln>
        </p:spPr>
      </p:pic>
      <p:pic>
        <p:nvPicPr>
          <p:cNvPr id="145" name="Picture 3" descr=""/>
          <p:cNvPicPr/>
          <p:nvPr/>
        </p:nvPicPr>
        <p:blipFill>
          <a:blip r:embed="rId2"/>
          <a:stretch/>
        </p:blipFill>
        <p:spPr>
          <a:xfrm>
            <a:off x="4419720" y="380880"/>
            <a:ext cx="3963960" cy="2971800"/>
          </a:xfrm>
          <a:prstGeom prst="rect">
            <a:avLst/>
          </a:prstGeom>
          <a:ln w="0">
            <a:noFill/>
          </a:ln>
        </p:spPr>
      </p:pic>
      <p:pic>
        <p:nvPicPr>
          <p:cNvPr id="146" name="Picture 4" descr=""/>
          <p:cNvPicPr/>
          <p:nvPr/>
        </p:nvPicPr>
        <p:blipFill>
          <a:blip r:embed="rId3"/>
          <a:stretch/>
        </p:blipFill>
        <p:spPr>
          <a:xfrm>
            <a:off x="4572000" y="3429000"/>
            <a:ext cx="3198960" cy="3278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work Solids</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ike ionic crystals, but they are held together with covalent bond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ngle elements can form an array of different network solid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g. Carbon forms graphite, diamond, nanotubes (pg. 6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different network solid of the same element just has different arrangement of the atom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me network solids contain two different element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g. Silicon Dioxide (sand, quart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s</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ermolecular Forces</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valent bonds exist between atoms within a molecular compoun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se covalent bonds are called </a:t>
            </a:r>
            <a:r>
              <a:rPr b="0" lang="en-US" sz="3200" spc="-1" strike="noStrike">
                <a:solidFill>
                  <a:srgbClr val="ffff00"/>
                </a:solidFill>
                <a:latin typeface="Calibri"/>
              </a:rPr>
              <a:t>intra</a:t>
            </a:r>
            <a:r>
              <a:rPr b="0" lang="en-US" sz="3200" spc="-1" strike="noStrike">
                <a:solidFill>
                  <a:srgbClr val="ffffff"/>
                </a:solidFill>
                <a:latin typeface="Calibri"/>
              </a:rPr>
              <a:t>molecular forc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ces holding entire molecules together are called </a:t>
            </a:r>
            <a:r>
              <a:rPr b="0" lang="en-US" sz="3200" spc="-1" strike="noStrike">
                <a:solidFill>
                  <a:srgbClr val="ffff00"/>
                </a:solidFill>
                <a:latin typeface="Calibri"/>
              </a:rPr>
              <a:t>inter</a:t>
            </a:r>
            <a:r>
              <a:rPr b="0" lang="en-US" sz="3200" spc="-1" strike="noStrike">
                <a:solidFill>
                  <a:srgbClr val="ffffff"/>
                </a:solidFill>
                <a:latin typeface="Calibri"/>
              </a:rPr>
              <a:t>molecular fo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ipole-Dipole Forces</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ccurs between polar molecu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olar molecules have a positive pole and a negative pole so they are called </a:t>
            </a:r>
            <a:r>
              <a:rPr b="0" i="1" lang="en-US" sz="3200" spc="-1" strike="noStrike">
                <a:solidFill>
                  <a:srgbClr val="ffff00"/>
                </a:solidFill>
                <a:latin typeface="Calibri"/>
              </a:rPr>
              <a:t>dipo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en two dipoles come close to each other, the positive pole of one is attracted to the negative pole of the oth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ipole-Dipole Attractions</a:t>
            </a:r>
            <a:endParaRPr b="0" lang="en-US" sz="4400" spc="-1" strike="noStrike">
              <a:solidFill>
                <a:srgbClr val="000000"/>
              </a:solidFill>
              <a:latin typeface="Calibri"/>
            </a:endParaRPr>
          </a:p>
        </p:txBody>
      </p:sp>
      <p:pic>
        <p:nvPicPr>
          <p:cNvPr id="158" name="Picture 2" descr=""/>
          <p:cNvPicPr/>
          <p:nvPr/>
        </p:nvPicPr>
        <p:blipFill>
          <a:blip r:embed="rId1"/>
          <a:stretch/>
        </p:blipFill>
        <p:spPr>
          <a:xfrm>
            <a:off x="2743200" y="1600200"/>
            <a:ext cx="3686040" cy="4525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molecule can be attracted to four or more other polar molecules at the same tim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is called </a:t>
            </a:r>
            <a:r>
              <a:rPr b="0" i="1" lang="en-US" sz="3200" spc="-1" strike="noStrike">
                <a:solidFill>
                  <a:srgbClr val="ffff00"/>
                </a:solidFill>
                <a:latin typeface="Calibri"/>
              </a:rPr>
              <a:t>Dipole-Dipole Attrac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t as strong as ionic attraction, but can be strong enough to stabilize a solid crystal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g. Table sug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ydrogen Bonding</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pecial dipole-dipole attraction that occurs between hydrogen and highly electronegative atoms such as oxygen, nitrogen, or fluorin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positive nucleus of the hydrogen atom is attracted to the slightly negative charge on the other atom</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uch stronger than other dipole-dipole att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64" name="Picture 2" descr=""/>
          <p:cNvPicPr/>
          <p:nvPr/>
        </p:nvPicPr>
        <p:blipFill>
          <a:blip r:embed="rId1"/>
          <a:stretch/>
        </p:blipFill>
        <p:spPr>
          <a:xfrm>
            <a:off x="2495520" y="2021040"/>
            <a:ext cx="4152960" cy="368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52480" y="41148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wis Dot Diagrams for Hydrogen and Chlorine Gas</a:t>
            </a:r>
            <a:endParaRPr b="0" lang="en-US" sz="1800" spc="-1" strike="noStrike">
              <a:solidFill>
                <a:srgbClr val="000000"/>
              </a:solidFill>
              <a:latin typeface="Calibri"/>
            </a:endParaRPr>
          </a:p>
        </p:txBody>
      </p:sp>
      <p:pic>
        <p:nvPicPr>
          <p:cNvPr id="57" name="" descr=""/>
          <p:cNvPicPr/>
          <p:nvPr/>
        </p:nvPicPr>
        <p:blipFill>
          <a:blip r:embed="rId1"/>
          <a:stretch/>
        </p:blipFill>
        <p:spPr>
          <a:xfrm>
            <a:off x="1792440" y="612720"/>
            <a:ext cx="5486400" cy="4114800"/>
          </a:xfrm>
          <a:prstGeom prst="rect">
            <a:avLst/>
          </a:prstGeom>
          <a:ln w="0">
            <a:noFill/>
          </a:ln>
        </p:spPr>
      </p:pic>
      <p:sp>
        <p:nvSpPr>
          <p:cNvPr id="58" name="PlaceHolder 2"/>
          <p:cNvSpPr>
            <a:spLocks noGrp="1"/>
          </p:cNvSpPr>
          <p:nvPr>
            <p:ph/>
          </p:nvPr>
        </p:nvSpPr>
        <p:spPr>
          <a:xfrm>
            <a:off x="1792440" y="4876920"/>
            <a:ext cx="5486400" cy="12952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irst row shows the atoms before they are bonded</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second row shows the sharing of electrons to fill the outer energy level</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third row has circles around the electrons  to show those that belong to each atom. Where the circles overlap  represents a covalent bond</a:t>
            </a:r>
            <a:endParaRPr b="0" lang="en-US" sz="1400" spc="-1" strike="noStrike">
              <a:solidFill>
                <a:srgbClr val="000000"/>
              </a:solidFill>
              <a:latin typeface="Calibri"/>
            </a:endParaRPr>
          </a:p>
        </p:txBody>
      </p:sp>
      <p:sp>
        <p:nvSpPr>
          <p:cNvPr id="5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 name="Group 1"/>
          <p:cNvGrpSpPr/>
          <p:nvPr/>
        </p:nvGrpSpPr>
        <p:grpSpPr>
          <a:xfrm>
            <a:off x="1371600" y="1447920"/>
            <a:ext cx="6058080" cy="2628720"/>
            <a:chOff x="1371600" y="1447920"/>
            <a:chExt cx="6058080" cy="2628720"/>
          </a:xfrm>
        </p:grpSpPr>
        <p:sp>
          <p:nvSpPr>
            <p:cNvPr id="61" name="AutoShape 4"/>
            <p:cNvSpPr/>
            <p:nvPr/>
          </p:nvSpPr>
          <p:spPr>
            <a:xfrm>
              <a:off x="1371600" y="1447920"/>
              <a:ext cx="6058080" cy="262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Picture 3" descr="F1"/>
            <p:cNvPicPr/>
            <p:nvPr/>
          </p:nvPicPr>
          <p:blipFill>
            <a:blip r:embed="rId2">
              <a:grayscl/>
            </a:blip>
            <a:stretch/>
          </p:blipFill>
          <p:spPr>
            <a:xfrm>
              <a:off x="1371600" y="1447920"/>
              <a:ext cx="5900400" cy="2379600"/>
            </a:xfrm>
            <a:prstGeom prst="rect">
              <a:avLst/>
            </a:prstGeom>
            <a:ln w="0">
              <a:noFill/>
            </a:ln>
          </p:spPr>
        </p:pic>
        <p:sp>
          <p:nvSpPr>
            <p:cNvPr id="63" name="Oval 2"/>
            <p:cNvSpPr/>
            <p:nvPr/>
          </p:nvSpPr>
          <p:spPr>
            <a:xfrm>
              <a:off x="2262240" y="3087000"/>
              <a:ext cx="685800" cy="68544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ydrogen Bonding in Water</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ydrogen bonding is an important factor that influences the structure and properties of wat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e oxygen atom can be hydrogen bonded to as many as 6 other hydrogen atoms in other water molecu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ydrogen Bonds in Ice</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ch water molecule is hydrogen bonded to four other water molecu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water molecules in ice are farther apart than in liquid water, therefore ice is </a:t>
            </a:r>
            <a:r>
              <a:rPr b="0" i="1" lang="en-US" sz="3200" spc="-1" strike="noStrike">
                <a:solidFill>
                  <a:srgbClr val="ffff00"/>
                </a:solidFill>
                <a:latin typeface="Calibri"/>
              </a:rPr>
              <a:t>less dense</a:t>
            </a:r>
            <a:r>
              <a:rPr b="0" lang="en-US" sz="3200" spc="-1" strike="noStrike">
                <a:solidFill>
                  <a:srgbClr val="ffff00"/>
                </a:solidFill>
                <a:latin typeface="Calibri"/>
              </a:rPr>
              <a:t> </a:t>
            </a:r>
            <a:r>
              <a:rPr b="0" lang="en-US" sz="3200" spc="-1" strike="noStrike">
                <a:solidFill>
                  <a:srgbClr val="ffffff"/>
                </a:solidFill>
                <a:latin typeface="Calibri"/>
              </a:rPr>
              <a:t>than liquid wat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ydrogen bonds are the strongest in the form shown in the next diagra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0" name="Picture 2" descr=""/>
          <p:cNvPicPr/>
          <p:nvPr/>
        </p:nvPicPr>
        <p:blipFill>
          <a:blip r:embed="rId1"/>
          <a:stretch/>
        </p:blipFill>
        <p:spPr>
          <a:xfrm>
            <a:off x="457200" y="1771560"/>
            <a:ext cx="8229600" cy="4183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nique Properties Reading</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d the handout on the unique properties of wa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ondon Dispersion Forces</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persion forces act between all molecules, but in non-polar molecules they are the only forc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ven though there are no permanent dipoles in non-polar molecules, it is possible to </a:t>
            </a:r>
            <a:r>
              <a:rPr b="0" i="1" lang="en-US" sz="3200" spc="-1" strike="noStrike">
                <a:solidFill>
                  <a:srgbClr val="ffff00"/>
                </a:solidFill>
                <a:latin typeface="Calibri"/>
              </a:rPr>
              <a:t>induce</a:t>
            </a:r>
            <a:r>
              <a:rPr b="0" lang="en-US" sz="3200" spc="-1" strike="noStrike">
                <a:solidFill>
                  <a:srgbClr val="ffffff"/>
                </a:solidFill>
                <a:latin typeface="Calibri"/>
              </a:rPr>
              <a:t> dipo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6" name="Picture 2" descr=""/>
          <p:cNvPicPr/>
          <p:nvPr/>
        </p:nvPicPr>
        <p:blipFill>
          <a:blip r:embed="rId1"/>
          <a:stretch/>
        </p:blipFill>
        <p:spPr>
          <a:xfrm>
            <a:off x="1351080" y="1600200"/>
            <a:ext cx="6441840" cy="4525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n-polar molecules also spontaneously form temporary dipol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lectrons are in constant, rapid mo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a brief moment the electron distribution can be uneve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can form a positive pole and a negative pole in the molecu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temporary dipole in the molecule can induce a temporary dipole in the next molecule, like the balloon and the wal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process disperses through the subst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actors Affecting Magnitude</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wo factors affect LD forces:</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creased electrons = increased probability of a temporary dipole forming</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inear shapes have greater London dispersion for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ructures and Properties of Compounds</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tate of a substance (solid, liquid or gas) depends on the strength of the intermolecular forc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 particles gain kinetic energy (heat) they break their intermolecular bonds and change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ultiple Bond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ouble and triple bonds can form between atoms in order to fill the outer energy leve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occurs when two atoms share more than one pair of electr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362320" y="4038480"/>
            <a:ext cx="4114800" cy="2468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ime of Hydrogen Bonding</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YI – hydrogen bonds in liquid water break and reform 100 000 000 000 (10</a:t>
            </a:r>
            <a:r>
              <a:rPr b="0" lang="en-US" sz="3200" spc="-1" strike="noStrike" baseline="30000">
                <a:solidFill>
                  <a:srgbClr val="ffffff"/>
                </a:solidFill>
                <a:latin typeface="Calibri"/>
              </a:rPr>
              <a:t>11</a:t>
            </a:r>
            <a:r>
              <a:rPr b="0" lang="en-US" sz="3200" spc="-1" strike="noStrike">
                <a:solidFill>
                  <a:srgbClr val="ffffff"/>
                </a:solidFill>
                <a:latin typeface="Calibri"/>
              </a:rPr>
              <a:t>) times every sec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lting and Boiling Points</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lting and boiling points of ionic substances and metals are about the same magnitud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lting and boiling points of molecular substances are much lower</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does that tell us about the fo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bonds are much stronger if the ions have a large charg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 ionic compounds that have ions with large charges will have higher melting/boiling poi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lecular Forces</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f the molecular compounds,  dipoles that form hydrogen bonds are the stronges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pole-dipole forces are weaker than hydrogen bond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n-polar molecules that have London dispersion forces are the weak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refore, hydrogen bonded substances have the highest melting/boiling points, dipole-dipole have lower melting/boiling points, and non-polar substances have the lowest melting/boiling poi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chanical Properties of Solids</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tals are malleable because of the nature of metallic bonds (positive ions in a sea of electron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substances are brittle because if a layer of the crystal is shifted down one position,  like ions will be aligned and repe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n-polar molecular substances are usually soft and easily brok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nductivity</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ability of a substance to transfer electrical curren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this to occur, charged particles (ions or electrons) must be able to move free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tals are good conductors because their electrons are free to move throughout the metallic structur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solids do not conduct electric current because the ions are held together in a rigid struc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onic substances that are dissolved in water are good conductors because the charged ions are free to move in the solu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me network solids can conduct electricity because of delocalized electrons (graphit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lecular compounds cannot conduct electricity in pure form or dissolved in wa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Review Questions</a:t>
            </a: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g. 137</a:t>
            </a:r>
            <a:endParaRPr b="0" lang="en-US" sz="32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3,4,6-14, 16, 19, 21, 22, 25-29, 31, 34-39, 41, 43, 47, 48, 51, 57, 60</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brdebenham@cbe.ab.c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ultiple Lewis Structure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me molecules can have more than one possible Lewis structure, usually when one single bond and one double bond can be exchanged within the rules of drawing Lewis structure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 of SO</a:t>
            </a:r>
            <a:r>
              <a:rPr b="0" lang="en-US" sz="3200" spc="-1" strike="noStrike" baseline="-25000">
                <a:solidFill>
                  <a:srgbClr val="ffffff"/>
                </a:solidFill>
                <a:latin typeface="Calibri"/>
              </a:rPr>
              <a:t>2</a:t>
            </a:r>
            <a:r>
              <a:rPr b="0" lang="en-US" sz="3200" spc="-1" strike="noStrike">
                <a:solidFill>
                  <a:srgbClr val="ffffff"/>
                </a:solidFill>
                <a:latin typeface="Calibri"/>
              </a:rPr>
              <a:t> (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ructural Diagram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wis Diagrams can be converted to structural diagrams for convenienc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ructural diagrams use lines to represent a bond, or a pair of electrons, but it does not show lone electron pair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ample: Chlorine G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ewis Dot Diagram Worksheet</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sing the rules for drawing Lewis dot diagrams, complete the worksheet (LDD and structura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extra practice, try the Lewis Structures Thought La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4T22:22:48Z</dcterms:created>
  <dc:creator>Brian Dedenham</dc:creator>
  <dc:description/>
  <dc:language>en-US</dc:language>
  <cp:lastModifiedBy>RomaK</cp:lastModifiedBy>
  <dcterms:modified xsi:type="dcterms:W3CDTF">2015-09-01T16:20:38Z</dcterms:modified>
  <cp:revision>97</cp:revision>
  <dc:subject/>
  <dc:title>Chemical Bonding</dc:title>
</cp:coreProperties>
</file>